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jpeg" ContentType="image/jpeg"/>
  <Override PartName="/ppt/media/image11.pct" ContentType="image/x-pict"/>
  <Override PartName="/ppt/media/image8.jpeg" ContentType="image/jpeg"/>
  <Override PartName="/ppt/media/image12.pct" ContentType="image/x-pict"/>
  <Override PartName="/ppt/media/image7.pct" ContentType="image/x-pict"/>
  <Override PartName="/ppt/media/image6.pct" ContentType="image/x-pict"/>
  <Override PartName="/ppt/media/image18.jpeg" ContentType="image/jpeg"/>
  <Override PartName="/ppt/media/image4.pct" ContentType="image/x-pict"/>
  <Override PartName="/ppt/media/image17.jpeg" ContentType="image/jpeg"/>
  <Override PartName="/ppt/media/image16.jpeg" ContentType="image/jpeg"/>
  <Override PartName="/ppt/media/image15.png" ContentType="image/png"/>
  <Override PartName="/ppt/media/image19.pct" ContentType="image/x-pict"/>
  <Override PartName="/ppt/media/image14.jpeg" ContentType="image/jpeg"/>
  <Override PartName="/ppt/media/image3.pct" ContentType="image/x-pict"/>
  <Override PartName="/ppt/media/image20.pct" ContentType="image/x-pict"/>
  <Override PartName="/ppt/media/image1.jpeg" ContentType="image/jpeg"/>
  <Override PartName="/ppt/media/image2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AE45-D851-4054-84CD-52E234B9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8F39-EF6D-4552-829C-A26A1CA2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7D6E-8AD9-4E36-A636-D9820A2E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F767-C120-4E7D-A44D-378471C2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3735-3F8A-4B95-822B-82544A9A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904-A390-47C4-BC4B-49E67449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537C-D353-4AF6-8F6A-7B6306D2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E4D-2395-4675-A203-1EFED4E0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859C-F4E2-4B3D-A32E-EB0613C3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0F0B-14A2-4298-A12D-D15A57D5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D45B-6E11-4419-85F1-B61A8C1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378E-ADE5-4DE0-89E3-134BBF64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AFDD-1B4A-428C-8AC6-08A4CA6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7085-CEAC-44DD-B757-2489484C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9E39-8963-49B2-9944-A65954BF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6D5D-A4F1-4CA2-8CD5-DE5AB89B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6F1E-7712-4226-A681-C2E0418A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4A46-738E-444B-930F-DA46DFC5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E691-6950-4A25-B765-20B627D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A7DF-8CDE-4DCE-A300-518EC3F5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7EB1-FB1F-47AF-B049-F595F683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3459-FDDD-4D77-B792-4E96167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075F-FD35-4297-8342-2FD2526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F4B5-CC2B-4BA3-9BD8-7C04047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7C51-11BA-48AE-80CF-ED086731B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-177840"/>
            <a:ext cx="9140760" cy="7009560"/>
            <a:chOff x="0" y="-177840"/>
            <a:chExt cx="9140760" cy="700956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444840"/>
              <a:ext cx="6392880" cy="3386880"/>
              <a:chOff x="2743200" y="3444840"/>
              <a:chExt cx="6392880" cy="338688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16960"/>
                <a:ext cx="4575240" cy="27147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160880"/>
                <a:ext cx="1998360" cy="131760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257800"/>
                <a:ext cx="4522680" cy="15739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444840"/>
                <a:ext cx="4773600" cy="33868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585600"/>
                <a:ext cx="1981080" cy="8755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000520"/>
              <a:ext cx="2897280" cy="2496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-177840"/>
              <a:ext cx="9140760" cy="288540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4BC-2D48-46AF-8557-140F1C4492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ammar.quickanddirtytips.com/" TargetMode="External"/><Relationship Id="rId2" Type="http://schemas.openxmlformats.org/officeDocument/2006/relationships/hyperlink" Target="http://frenchpodclass.com/" TargetMode="External"/><Relationship Id="rId3" Type="http://schemas.openxmlformats.org/officeDocument/2006/relationships/hyperlink" Target="http://www.bobsprankle.com/blog/C1697218367/index.html" TargetMode="External"/><Relationship Id="rId4" Type="http://schemas.openxmlformats.org/officeDocument/2006/relationships/hyperlink" Target="http://wcms.mypodcast.com/" TargetMode="External"/><Relationship Id="rId5" Type="http://schemas.openxmlformats.org/officeDocument/2006/relationships/hyperlink" Target="http://podcasts.cvsd.k12.pa.us/weblog/superintendent/" TargetMode="External"/><Relationship Id="rId6" Type="http://schemas.openxmlformats.org/officeDocument/2006/relationships/slide" Target="slide12.xml"/><Relationship Id="rId7" Type="http://schemas.openxmlformats.org/officeDocument/2006/relationships/image" Target="../media/image10.pct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1.pct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mages/CPS%20DataBase.cps" TargetMode="External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3128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ing Podcasts for Educ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18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ystone Technology Integrators’ Sum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uly 28, 200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cknell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32120" y="1766880"/>
            <a:ext cx="34797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 to Teach Standard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6200" y="198612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Writ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4.3 a,b,c; 1.4.5 a,b,c; 1.4.8 a,b,c; 1.4.11 a,b,c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Writ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5.3 a,b,c; 1.5.5 a,b,c; 1.5.8 a,b,c; 1.5.11 a,b,c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aking and Listen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6.3 a,c; 1.6.5 a,c; 1.6.8 a,c; 1.6.11 a,c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8.3c; 1.8.5c; 1.8.8c; 1.8.11c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97560" y="4971960"/>
            <a:ext cx="13892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252000"/>
            <a:ext cx="66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as for using podcasting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each standards:</a:t>
            </a:r>
            <a:br>
              <a:rPr sz="36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Teaching Strategy: Graphic Organizer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28720" y="2251080"/>
            <a:ext cx="5516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4640" y="63943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a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Hi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3160" y="306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8153280" y="3522600"/>
            <a:ext cx="739800" cy="3022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420040" y="504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69640" y="40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31480" y="5900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4200" y="6361200"/>
            <a:ext cx="30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ject: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onster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 Hints: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01320" y="1935000"/>
            <a:ext cx="4991400" cy="38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riad of us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flipH="1">
            <a:off x="7275600" y="5238720"/>
            <a:ext cx="1411200" cy="1336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720" y="62085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ck to th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acher / Student Podca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5960" y="1850760"/>
            <a:ext cx="695484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room 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ig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 classro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 Audio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ations / Lecture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-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gnment /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st Spe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spelling / vocabu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50240" y="3894120"/>
            <a:ext cx="1620000" cy="1568880"/>
            <a:chOff x="7050240" y="3894120"/>
            <a:chExt cx="1620000" cy="1568880"/>
          </a:xfrm>
        </p:grpSpPr>
        <p:grpSp>
          <p:nvGrpSpPr>
            <p:cNvPr id="154" name=""/>
            <p:cNvGrpSpPr/>
            <p:nvPr/>
          </p:nvGrpSpPr>
          <p:grpSpPr>
            <a:xfrm>
              <a:off x="7050240" y="3894120"/>
              <a:ext cx="942840" cy="1540440"/>
              <a:chOff x="7050240" y="3894120"/>
              <a:chExt cx="942840" cy="1540440"/>
            </a:xfrm>
          </p:grpSpPr>
          <p:sp>
            <p:nvSpPr>
              <p:cNvPr id="155" name=""/>
              <p:cNvSpPr/>
              <p:nvPr/>
            </p:nvSpPr>
            <p:spPr>
              <a:xfrm>
                <a:off x="7103520" y="4014360"/>
                <a:ext cx="889560" cy="1074240"/>
              </a:xfrm>
              <a:custGeom>
                <a:avLst/>
                <a:gdLst/>
                <a:ahLst/>
                <a:rect l="l" t="t" r="r" b="b"/>
                <a:pathLst>
                  <a:path w="1393" h="1687">
                    <a:moveTo>
                      <a:pt x="961" y="46"/>
                    </a:moveTo>
                    <a:lnTo>
                      <a:pt x="1013" y="279"/>
                    </a:lnTo>
                    <a:lnTo>
                      <a:pt x="1063" y="461"/>
                    </a:lnTo>
                    <a:lnTo>
                      <a:pt x="1129" y="660"/>
                    </a:lnTo>
                    <a:lnTo>
                      <a:pt x="1185" y="808"/>
                    </a:lnTo>
                    <a:lnTo>
                      <a:pt x="1247" y="950"/>
                    </a:lnTo>
                    <a:lnTo>
                      <a:pt x="1282" y="1036"/>
                    </a:lnTo>
                    <a:lnTo>
                      <a:pt x="1013" y="1214"/>
                    </a:lnTo>
                    <a:lnTo>
                      <a:pt x="784" y="1361"/>
                    </a:lnTo>
                    <a:lnTo>
                      <a:pt x="591" y="1484"/>
                    </a:lnTo>
                    <a:lnTo>
                      <a:pt x="478" y="1575"/>
                    </a:lnTo>
                    <a:lnTo>
                      <a:pt x="448" y="1570"/>
                    </a:lnTo>
                    <a:lnTo>
                      <a:pt x="407" y="1509"/>
                    </a:lnTo>
                    <a:lnTo>
                      <a:pt x="342" y="1204"/>
                    </a:lnTo>
                    <a:lnTo>
                      <a:pt x="224" y="878"/>
                    </a:lnTo>
                    <a:lnTo>
                      <a:pt x="113" y="650"/>
                    </a:lnTo>
                    <a:lnTo>
                      <a:pt x="128" y="614"/>
                    </a:lnTo>
                    <a:lnTo>
                      <a:pt x="413" y="456"/>
                    </a:lnTo>
                    <a:lnTo>
                      <a:pt x="631" y="325"/>
                    </a:lnTo>
                    <a:lnTo>
                      <a:pt x="825" y="219"/>
                    </a:lnTo>
                    <a:lnTo>
                      <a:pt x="951" y="111"/>
                    </a:lnTo>
                    <a:lnTo>
                      <a:pt x="931" y="86"/>
                    </a:lnTo>
                    <a:lnTo>
                      <a:pt x="880" y="81"/>
                    </a:lnTo>
                    <a:lnTo>
                      <a:pt x="865" y="86"/>
                    </a:lnTo>
                    <a:lnTo>
                      <a:pt x="850" y="96"/>
                    </a:lnTo>
                    <a:lnTo>
                      <a:pt x="845" y="111"/>
                    </a:lnTo>
                    <a:lnTo>
                      <a:pt x="840" y="127"/>
                    </a:lnTo>
                    <a:lnTo>
                      <a:pt x="830" y="142"/>
                    </a:lnTo>
                    <a:lnTo>
                      <a:pt x="814" y="152"/>
                    </a:lnTo>
                    <a:lnTo>
                      <a:pt x="799" y="152"/>
                    </a:lnTo>
                    <a:lnTo>
                      <a:pt x="784" y="152"/>
                    </a:lnTo>
                    <a:lnTo>
                      <a:pt x="769" y="147"/>
                    </a:lnTo>
                    <a:lnTo>
                      <a:pt x="754" y="147"/>
                    </a:lnTo>
                    <a:lnTo>
                      <a:pt x="737" y="157"/>
                    </a:lnTo>
                    <a:lnTo>
                      <a:pt x="737" y="172"/>
                    </a:lnTo>
                    <a:lnTo>
                      <a:pt x="727" y="187"/>
                    </a:lnTo>
                    <a:lnTo>
                      <a:pt x="712" y="202"/>
                    </a:lnTo>
                    <a:lnTo>
                      <a:pt x="697" y="219"/>
                    </a:lnTo>
                    <a:lnTo>
                      <a:pt x="682" y="219"/>
                    </a:lnTo>
                    <a:lnTo>
                      <a:pt x="662" y="219"/>
                    </a:lnTo>
                    <a:lnTo>
                      <a:pt x="646" y="219"/>
                    </a:lnTo>
                    <a:lnTo>
                      <a:pt x="631" y="207"/>
                    </a:lnTo>
                    <a:lnTo>
                      <a:pt x="616" y="214"/>
                    </a:lnTo>
                    <a:lnTo>
                      <a:pt x="601" y="224"/>
                    </a:lnTo>
                    <a:lnTo>
                      <a:pt x="591" y="239"/>
                    </a:lnTo>
                    <a:lnTo>
                      <a:pt x="581" y="254"/>
                    </a:lnTo>
                    <a:lnTo>
                      <a:pt x="576" y="269"/>
                    </a:lnTo>
                    <a:lnTo>
                      <a:pt x="560" y="284"/>
                    </a:lnTo>
                    <a:lnTo>
                      <a:pt x="545" y="284"/>
                    </a:lnTo>
                    <a:lnTo>
                      <a:pt x="530" y="284"/>
                    </a:lnTo>
                    <a:lnTo>
                      <a:pt x="515" y="279"/>
                    </a:lnTo>
                    <a:lnTo>
                      <a:pt x="500" y="279"/>
                    </a:lnTo>
                    <a:lnTo>
                      <a:pt x="483" y="289"/>
                    </a:lnTo>
                    <a:lnTo>
                      <a:pt x="468" y="310"/>
                    </a:lnTo>
                    <a:lnTo>
                      <a:pt x="463" y="325"/>
                    </a:lnTo>
                    <a:lnTo>
                      <a:pt x="453" y="340"/>
                    </a:lnTo>
                    <a:lnTo>
                      <a:pt x="433" y="350"/>
                    </a:lnTo>
                    <a:lnTo>
                      <a:pt x="418" y="350"/>
                    </a:lnTo>
                    <a:lnTo>
                      <a:pt x="402" y="335"/>
                    </a:lnTo>
                    <a:lnTo>
                      <a:pt x="387" y="335"/>
                    </a:lnTo>
                    <a:lnTo>
                      <a:pt x="372" y="335"/>
                    </a:lnTo>
                    <a:lnTo>
                      <a:pt x="357" y="335"/>
                    </a:lnTo>
                    <a:lnTo>
                      <a:pt x="342" y="350"/>
                    </a:lnTo>
                    <a:lnTo>
                      <a:pt x="332" y="365"/>
                    </a:lnTo>
                    <a:lnTo>
                      <a:pt x="326" y="381"/>
                    </a:lnTo>
                    <a:lnTo>
                      <a:pt x="316" y="396"/>
                    </a:lnTo>
                    <a:lnTo>
                      <a:pt x="311" y="411"/>
                    </a:lnTo>
                    <a:lnTo>
                      <a:pt x="296" y="416"/>
                    </a:lnTo>
                    <a:lnTo>
                      <a:pt x="280" y="416"/>
                    </a:lnTo>
                    <a:lnTo>
                      <a:pt x="265" y="411"/>
                    </a:lnTo>
                    <a:lnTo>
                      <a:pt x="255" y="426"/>
                    </a:lnTo>
                    <a:lnTo>
                      <a:pt x="239" y="436"/>
                    </a:lnTo>
                    <a:lnTo>
                      <a:pt x="229" y="456"/>
                    </a:lnTo>
                    <a:lnTo>
                      <a:pt x="219" y="473"/>
                    </a:lnTo>
                    <a:lnTo>
                      <a:pt x="199" y="473"/>
                    </a:lnTo>
                    <a:lnTo>
                      <a:pt x="184" y="473"/>
                    </a:lnTo>
                    <a:lnTo>
                      <a:pt x="169" y="461"/>
                    </a:lnTo>
                    <a:lnTo>
                      <a:pt x="153" y="461"/>
                    </a:lnTo>
                    <a:lnTo>
                      <a:pt x="138" y="473"/>
                    </a:lnTo>
                    <a:lnTo>
                      <a:pt x="138" y="493"/>
                    </a:lnTo>
                    <a:lnTo>
                      <a:pt x="138" y="508"/>
                    </a:lnTo>
                    <a:lnTo>
                      <a:pt x="133" y="523"/>
                    </a:lnTo>
                    <a:lnTo>
                      <a:pt x="123" y="538"/>
                    </a:lnTo>
                    <a:lnTo>
                      <a:pt x="108" y="538"/>
                    </a:lnTo>
                    <a:lnTo>
                      <a:pt x="93" y="538"/>
                    </a:lnTo>
                    <a:lnTo>
                      <a:pt x="76" y="533"/>
                    </a:lnTo>
                    <a:lnTo>
                      <a:pt x="61" y="528"/>
                    </a:lnTo>
                    <a:lnTo>
                      <a:pt x="46" y="528"/>
                    </a:lnTo>
                    <a:lnTo>
                      <a:pt x="26" y="528"/>
                    </a:lnTo>
                    <a:lnTo>
                      <a:pt x="11" y="538"/>
                    </a:lnTo>
                    <a:lnTo>
                      <a:pt x="0" y="554"/>
                    </a:lnTo>
                    <a:lnTo>
                      <a:pt x="0" y="569"/>
                    </a:lnTo>
                    <a:lnTo>
                      <a:pt x="0" y="584"/>
                    </a:lnTo>
                    <a:lnTo>
                      <a:pt x="6" y="599"/>
                    </a:lnTo>
                    <a:lnTo>
                      <a:pt x="26" y="614"/>
                    </a:lnTo>
                    <a:lnTo>
                      <a:pt x="41" y="619"/>
                    </a:lnTo>
                    <a:lnTo>
                      <a:pt x="51" y="635"/>
                    </a:lnTo>
                    <a:lnTo>
                      <a:pt x="46" y="650"/>
                    </a:lnTo>
                    <a:lnTo>
                      <a:pt x="36" y="665"/>
                    </a:lnTo>
                    <a:lnTo>
                      <a:pt x="26" y="680"/>
                    </a:lnTo>
                    <a:lnTo>
                      <a:pt x="26" y="695"/>
                    </a:lnTo>
                    <a:lnTo>
                      <a:pt x="26" y="711"/>
                    </a:lnTo>
                    <a:lnTo>
                      <a:pt x="41" y="722"/>
                    </a:lnTo>
                    <a:lnTo>
                      <a:pt x="56" y="732"/>
                    </a:lnTo>
                    <a:lnTo>
                      <a:pt x="71" y="742"/>
                    </a:lnTo>
                    <a:lnTo>
                      <a:pt x="88" y="752"/>
                    </a:lnTo>
                    <a:lnTo>
                      <a:pt x="93" y="772"/>
                    </a:lnTo>
                    <a:lnTo>
                      <a:pt x="81" y="787"/>
                    </a:lnTo>
                    <a:lnTo>
                      <a:pt x="71" y="808"/>
                    </a:lnTo>
                    <a:lnTo>
                      <a:pt x="66" y="823"/>
                    </a:lnTo>
                    <a:lnTo>
                      <a:pt x="66" y="843"/>
                    </a:lnTo>
                    <a:lnTo>
                      <a:pt x="76" y="858"/>
                    </a:lnTo>
                    <a:lnTo>
                      <a:pt x="93" y="858"/>
                    </a:lnTo>
                    <a:lnTo>
                      <a:pt x="108" y="863"/>
                    </a:lnTo>
                    <a:lnTo>
                      <a:pt x="123" y="868"/>
                    </a:lnTo>
                    <a:lnTo>
                      <a:pt x="138" y="878"/>
                    </a:lnTo>
                    <a:lnTo>
                      <a:pt x="169" y="883"/>
                    </a:lnTo>
                    <a:lnTo>
                      <a:pt x="189" y="899"/>
                    </a:lnTo>
                    <a:lnTo>
                      <a:pt x="194" y="914"/>
                    </a:lnTo>
                    <a:lnTo>
                      <a:pt x="189" y="930"/>
                    </a:lnTo>
                    <a:lnTo>
                      <a:pt x="184" y="945"/>
                    </a:lnTo>
                    <a:lnTo>
                      <a:pt x="179" y="960"/>
                    </a:lnTo>
                    <a:lnTo>
                      <a:pt x="169" y="976"/>
                    </a:lnTo>
                    <a:lnTo>
                      <a:pt x="169" y="991"/>
                    </a:lnTo>
                    <a:lnTo>
                      <a:pt x="174" y="1006"/>
                    </a:lnTo>
                    <a:lnTo>
                      <a:pt x="194" y="1026"/>
                    </a:lnTo>
                    <a:lnTo>
                      <a:pt x="204" y="1041"/>
                    </a:lnTo>
                    <a:lnTo>
                      <a:pt x="214" y="1057"/>
                    </a:lnTo>
                    <a:lnTo>
                      <a:pt x="214" y="1072"/>
                    </a:lnTo>
                    <a:lnTo>
                      <a:pt x="209" y="1092"/>
                    </a:lnTo>
                    <a:lnTo>
                      <a:pt x="204" y="1112"/>
                    </a:lnTo>
                    <a:lnTo>
                      <a:pt x="199" y="1127"/>
                    </a:lnTo>
                    <a:lnTo>
                      <a:pt x="199" y="1144"/>
                    </a:lnTo>
                    <a:lnTo>
                      <a:pt x="209" y="1164"/>
                    </a:lnTo>
                    <a:lnTo>
                      <a:pt x="224" y="1174"/>
                    </a:lnTo>
                    <a:lnTo>
                      <a:pt x="244" y="1184"/>
                    </a:lnTo>
                    <a:lnTo>
                      <a:pt x="285" y="1194"/>
                    </a:lnTo>
                    <a:lnTo>
                      <a:pt x="301" y="1199"/>
                    </a:lnTo>
                    <a:lnTo>
                      <a:pt x="285" y="1214"/>
                    </a:lnTo>
                    <a:lnTo>
                      <a:pt x="270" y="1230"/>
                    </a:lnTo>
                    <a:lnTo>
                      <a:pt x="250" y="1250"/>
                    </a:lnTo>
                    <a:lnTo>
                      <a:pt x="239" y="1270"/>
                    </a:lnTo>
                    <a:lnTo>
                      <a:pt x="239" y="1290"/>
                    </a:lnTo>
                    <a:lnTo>
                      <a:pt x="275" y="1311"/>
                    </a:lnTo>
                    <a:lnTo>
                      <a:pt x="306" y="1341"/>
                    </a:lnTo>
                    <a:lnTo>
                      <a:pt x="321" y="1351"/>
                    </a:lnTo>
                    <a:lnTo>
                      <a:pt x="332" y="1366"/>
                    </a:lnTo>
                    <a:lnTo>
                      <a:pt x="337" y="1381"/>
                    </a:lnTo>
                    <a:lnTo>
                      <a:pt x="326" y="1398"/>
                    </a:lnTo>
                    <a:lnTo>
                      <a:pt x="316" y="1418"/>
                    </a:lnTo>
                    <a:lnTo>
                      <a:pt x="311" y="1438"/>
                    </a:lnTo>
                    <a:lnTo>
                      <a:pt x="311" y="1453"/>
                    </a:lnTo>
                    <a:lnTo>
                      <a:pt x="326" y="1468"/>
                    </a:lnTo>
                    <a:lnTo>
                      <a:pt x="342" y="1473"/>
                    </a:lnTo>
                    <a:lnTo>
                      <a:pt x="357" y="1484"/>
                    </a:lnTo>
                    <a:lnTo>
                      <a:pt x="367" y="1499"/>
                    </a:lnTo>
                    <a:lnTo>
                      <a:pt x="362" y="1514"/>
                    </a:lnTo>
                    <a:lnTo>
                      <a:pt x="357" y="1529"/>
                    </a:lnTo>
                    <a:lnTo>
                      <a:pt x="352" y="1544"/>
                    </a:lnTo>
                    <a:lnTo>
                      <a:pt x="352" y="1559"/>
                    </a:lnTo>
                    <a:lnTo>
                      <a:pt x="352" y="1580"/>
                    </a:lnTo>
                    <a:lnTo>
                      <a:pt x="352" y="1600"/>
                    </a:lnTo>
                    <a:lnTo>
                      <a:pt x="362" y="1615"/>
                    </a:lnTo>
                    <a:lnTo>
                      <a:pt x="372" y="1630"/>
                    </a:lnTo>
                    <a:lnTo>
                      <a:pt x="387" y="1635"/>
                    </a:lnTo>
                    <a:lnTo>
                      <a:pt x="402" y="1630"/>
                    </a:lnTo>
                    <a:lnTo>
                      <a:pt x="418" y="1630"/>
                    </a:lnTo>
                    <a:lnTo>
                      <a:pt x="433" y="1630"/>
                    </a:lnTo>
                    <a:lnTo>
                      <a:pt x="448" y="1640"/>
                    </a:lnTo>
                    <a:lnTo>
                      <a:pt x="458" y="1662"/>
                    </a:lnTo>
                    <a:lnTo>
                      <a:pt x="463" y="1682"/>
                    </a:lnTo>
                    <a:lnTo>
                      <a:pt x="478" y="1687"/>
                    </a:lnTo>
                    <a:lnTo>
                      <a:pt x="495" y="1687"/>
                    </a:lnTo>
                    <a:lnTo>
                      <a:pt x="510" y="1687"/>
                    </a:lnTo>
                    <a:lnTo>
                      <a:pt x="525" y="1687"/>
                    </a:lnTo>
                    <a:lnTo>
                      <a:pt x="540" y="1682"/>
                    </a:lnTo>
                    <a:lnTo>
                      <a:pt x="545" y="1667"/>
                    </a:lnTo>
                    <a:lnTo>
                      <a:pt x="565" y="1657"/>
                    </a:lnTo>
                    <a:lnTo>
                      <a:pt x="581" y="1640"/>
                    </a:lnTo>
                    <a:lnTo>
                      <a:pt x="586" y="1620"/>
                    </a:lnTo>
                    <a:lnTo>
                      <a:pt x="586" y="1605"/>
                    </a:lnTo>
                    <a:lnTo>
                      <a:pt x="591" y="1590"/>
                    </a:lnTo>
                    <a:lnTo>
                      <a:pt x="596" y="1575"/>
                    </a:lnTo>
                    <a:lnTo>
                      <a:pt x="616" y="1559"/>
                    </a:lnTo>
                    <a:lnTo>
                      <a:pt x="631" y="1554"/>
                    </a:lnTo>
                    <a:lnTo>
                      <a:pt x="646" y="1565"/>
                    </a:lnTo>
                    <a:lnTo>
                      <a:pt x="657" y="1580"/>
                    </a:lnTo>
                    <a:lnTo>
                      <a:pt x="672" y="1580"/>
                    </a:lnTo>
                    <a:lnTo>
                      <a:pt x="687" y="1570"/>
                    </a:lnTo>
                    <a:lnTo>
                      <a:pt x="697" y="1554"/>
                    </a:lnTo>
                    <a:lnTo>
                      <a:pt x="697" y="1539"/>
                    </a:lnTo>
                    <a:lnTo>
                      <a:pt x="692" y="1524"/>
                    </a:lnTo>
                    <a:lnTo>
                      <a:pt x="692" y="1509"/>
                    </a:lnTo>
                    <a:lnTo>
                      <a:pt x="1175" y="1189"/>
                    </a:lnTo>
                    <a:lnTo>
                      <a:pt x="1200" y="1225"/>
                    </a:lnTo>
                    <a:lnTo>
                      <a:pt x="1215" y="1230"/>
                    </a:lnTo>
                    <a:lnTo>
                      <a:pt x="1232" y="1230"/>
                    </a:lnTo>
                    <a:lnTo>
                      <a:pt x="1237" y="1214"/>
                    </a:lnTo>
                    <a:lnTo>
                      <a:pt x="1242" y="1199"/>
                    </a:lnTo>
                    <a:lnTo>
                      <a:pt x="1257" y="1189"/>
                    </a:lnTo>
                    <a:lnTo>
                      <a:pt x="1277" y="1179"/>
                    </a:lnTo>
                    <a:lnTo>
                      <a:pt x="1292" y="1179"/>
                    </a:lnTo>
                    <a:lnTo>
                      <a:pt x="1307" y="1179"/>
                    </a:lnTo>
                    <a:lnTo>
                      <a:pt x="1323" y="1174"/>
                    </a:lnTo>
                    <a:lnTo>
                      <a:pt x="1338" y="1159"/>
                    </a:lnTo>
                    <a:lnTo>
                      <a:pt x="1333" y="1144"/>
                    </a:lnTo>
                    <a:lnTo>
                      <a:pt x="1333" y="1127"/>
                    </a:lnTo>
                    <a:lnTo>
                      <a:pt x="1353" y="1117"/>
                    </a:lnTo>
                    <a:lnTo>
                      <a:pt x="1368" y="1117"/>
                    </a:lnTo>
                    <a:lnTo>
                      <a:pt x="1383" y="1117"/>
                    </a:lnTo>
                    <a:lnTo>
                      <a:pt x="1393" y="1102"/>
                    </a:lnTo>
                    <a:lnTo>
                      <a:pt x="1393" y="1087"/>
                    </a:lnTo>
                    <a:lnTo>
                      <a:pt x="1393" y="1072"/>
                    </a:lnTo>
                    <a:lnTo>
                      <a:pt x="1393" y="1057"/>
                    </a:lnTo>
                    <a:lnTo>
                      <a:pt x="1393" y="1036"/>
                    </a:lnTo>
                    <a:lnTo>
                      <a:pt x="1388" y="1021"/>
                    </a:lnTo>
                    <a:lnTo>
                      <a:pt x="1373" y="1006"/>
                    </a:lnTo>
                    <a:lnTo>
                      <a:pt x="1353" y="996"/>
                    </a:lnTo>
                    <a:lnTo>
                      <a:pt x="1338" y="986"/>
                    </a:lnTo>
                    <a:lnTo>
                      <a:pt x="1328" y="971"/>
                    </a:lnTo>
                    <a:lnTo>
                      <a:pt x="1328" y="955"/>
                    </a:lnTo>
                    <a:lnTo>
                      <a:pt x="1328" y="940"/>
                    </a:lnTo>
                    <a:lnTo>
                      <a:pt x="1338" y="925"/>
                    </a:lnTo>
                    <a:lnTo>
                      <a:pt x="1338" y="904"/>
                    </a:lnTo>
                    <a:lnTo>
                      <a:pt x="1328" y="889"/>
                    </a:lnTo>
                    <a:lnTo>
                      <a:pt x="1313" y="878"/>
                    </a:lnTo>
                    <a:lnTo>
                      <a:pt x="1297" y="873"/>
                    </a:lnTo>
                    <a:lnTo>
                      <a:pt x="1282" y="868"/>
                    </a:lnTo>
                    <a:lnTo>
                      <a:pt x="1277" y="853"/>
                    </a:lnTo>
                    <a:lnTo>
                      <a:pt x="1277" y="838"/>
                    </a:lnTo>
                    <a:lnTo>
                      <a:pt x="1282" y="823"/>
                    </a:lnTo>
                    <a:lnTo>
                      <a:pt x="1277" y="808"/>
                    </a:lnTo>
                    <a:lnTo>
                      <a:pt x="1277" y="777"/>
                    </a:lnTo>
                    <a:lnTo>
                      <a:pt x="1272" y="757"/>
                    </a:lnTo>
                    <a:lnTo>
                      <a:pt x="1257" y="752"/>
                    </a:lnTo>
                    <a:lnTo>
                      <a:pt x="1242" y="747"/>
                    </a:lnTo>
                    <a:lnTo>
                      <a:pt x="1225" y="737"/>
                    </a:lnTo>
                    <a:lnTo>
                      <a:pt x="1220" y="722"/>
                    </a:lnTo>
                    <a:lnTo>
                      <a:pt x="1220" y="706"/>
                    </a:lnTo>
                    <a:lnTo>
                      <a:pt x="1225" y="690"/>
                    </a:lnTo>
                    <a:lnTo>
                      <a:pt x="1237" y="675"/>
                    </a:lnTo>
                    <a:lnTo>
                      <a:pt x="1237" y="655"/>
                    </a:lnTo>
                    <a:lnTo>
                      <a:pt x="1237" y="640"/>
                    </a:lnTo>
                    <a:lnTo>
                      <a:pt x="1220" y="624"/>
                    </a:lnTo>
                    <a:lnTo>
                      <a:pt x="1205" y="614"/>
                    </a:lnTo>
                    <a:lnTo>
                      <a:pt x="1185" y="599"/>
                    </a:lnTo>
                    <a:lnTo>
                      <a:pt x="1170" y="594"/>
                    </a:lnTo>
                    <a:lnTo>
                      <a:pt x="1155" y="579"/>
                    </a:lnTo>
                    <a:lnTo>
                      <a:pt x="1150" y="564"/>
                    </a:lnTo>
                    <a:lnTo>
                      <a:pt x="1155" y="549"/>
                    </a:lnTo>
                    <a:lnTo>
                      <a:pt x="1160" y="533"/>
                    </a:lnTo>
                    <a:lnTo>
                      <a:pt x="1160" y="518"/>
                    </a:lnTo>
                    <a:lnTo>
                      <a:pt x="1165" y="503"/>
                    </a:lnTo>
                    <a:lnTo>
                      <a:pt x="1165" y="488"/>
                    </a:lnTo>
                    <a:lnTo>
                      <a:pt x="1160" y="473"/>
                    </a:lnTo>
                    <a:lnTo>
                      <a:pt x="1160" y="456"/>
                    </a:lnTo>
                    <a:lnTo>
                      <a:pt x="1139" y="441"/>
                    </a:lnTo>
                    <a:lnTo>
                      <a:pt x="1124" y="431"/>
                    </a:lnTo>
                    <a:lnTo>
                      <a:pt x="1109" y="426"/>
                    </a:lnTo>
                    <a:lnTo>
                      <a:pt x="1109" y="411"/>
                    </a:lnTo>
                    <a:lnTo>
                      <a:pt x="1109" y="396"/>
                    </a:lnTo>
                    <a:lnTo>
                      <a:pt x="1109" y="381"/>
                    </a:lnTo>
                    <a:lnTo>
                      <a:pt x="1109" y="365"/>
                    </a:lnTo>
                    <a:lnTo>
                      <a:pt x="1114" y="345"/>
                    </a:lnTo>
                    <a:lnTo>
                      <a:pt x="1109" y="330"/>
                    </a:lnTo>
                    <a:lnTo>
                      <a:pt x="1099" y="315"/>
                    </a:lnTo>
                    <a:lnTo>
                      <a:pt x="1084" y="305"/>
                    </a:lnTo>
                    <a:lnTo>
                      <a:pt x="1069" y="300"/>
                    </a:lnTo>
                    <a:lnTo>
                      <a:pt x="1069" y="284"/>
                    </a:lnTo>
                    <a:lnTo>
                      <a:pt x="1069" y="269"/>
                    </a:lnTo>
                    <a:lnTo>
                      <a:pt x="1074" y="254"/>
                    </a:lnTo>
                    <a:lnTo>
                      <a:pt x="1079" y="239"/>
                    </a:lnTo>
                    <a:lnTo>
                      <a:pt x="1079" y="224"/>
                    </a:lnTo>
                    <a:lnTo>
                      <a:pt x="1079" y="207"/>
                    </a:lnTo>
                    <a:lnTo>
                      <a:pt x="1074" y="192"/>
                    </a:lnTo>
                    <a:lnTo>
                      <a:pt x="1058" y="182"/>
                    </a:lnTo>
                    <a:lnTo>
                      <a:pt x="1043" y="167"/>
                    </a:lnTo>
                    <a:lnTo>
                      <a:pt x="1028" y="157"/>
                    </a:lnTo>
                    <a:lnTo>
                      <a:pt x="1038" y="137"/>
                    </a:lnTo>
                    <a:lnTo>
                      <a:pt x="1038" y="121"/>
                    </a:lnTo>
                    <a:lnTo>
                      <a:pt x="1038" y="106"/>
                    </a:lnTo>
                    <a:lnTo>
                      <a:pt x="1043" y="91"/>
                    </a:lnTo>
                    <a:lnTo>
                      <a:pt x="1053" y="76"/>
                    </a:lnTo>
                    <a:lnTo>
                      <a:pt x="1053" y="56"/>
                    </a:lnTo>
                    <a:lnTo>
                      <a:pt x="1048" y="40"/>
                    </a:lnTo>
                    <a:lnTo>
                      <a:pt x="1043" y="25"/>
                    </a:lnTo>
                    <a:lnTo>
                      <a:pt x="1033" y="10"/>
                    </a:lnTo>
                    <a:lnTo>
                      <a:pt x="1018" y="5"/>
                    </a:lnTo>
                    <a:lnTo>
                      <a:pt x="1003" y="0"/>
                    </a:lnTo>
                    <a:lnTo>
                      <a:pt x="988" y="0"/>
                    </a:lnTo>
                    <a:lnTo>
                      <a:pt x="971" y="10"/>
                    </a:lnTo>
                    <a:lnTo>
                      <a:pt x="956" y="20"/>
                    </a:lnTo>
                    <a:lnTo>
                      <a:pt x="96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50760" y="4165200"/>
                <a:ext cx="612000" cy="764640"/>
              </a:xfrm>
              <a:custGeom>
                <a:avLst/>
                <a:gdLst/>
                <a:ahLst/>
                <a:rect l="l" t="t" r="r" b="b"/>
                <a:pathLst>
                  <a:path w="960" h="1199">
                    <a:moveTo>
                      <a:pt x="702" y="0"/>
                    </a:moveTo>
                    <a:lnTo>
                      <a:pt x="772" y="254"/>
                    </a:lnTo>
                    <a:lnTo>
                      <a:pt x="829" y="426"/>
                    </a:lnTo>
                    <a:lnTo>
                      <a:pt x="900" y="614"/>
                    </a:lnTo>
                    <a:lnTo>
                      <a:pt x="960" y="767"/>
                    </a:lnTo>
                    <a:lnTo>
                      <a:pt x="945" y="782"/>
                    </a:lnTo>
                    <a:lnTo>
                      <a:pt x="752" y="910"/>
                    </a:lnTo>
                    <a:lnTo>
                      <a:pt x="508" y="1056"/>
                    </a:lnTo>
                    <a:lnTo>
                      <a:pt x="301" y="1179"/>
                    </a:lnTo>
                    <a:lnTo>
                      <a:pt x="266" y="1199"/>
                    </a:lnTo>
                    <a:lnTo>
                      <a:pt x="249" y="1189"/>
                    </a:lnTo>
                    <a:lnTo>
                      <a:pt x="173" y="898"/>
                    </a:lnTo>
                    <a:lnTo>
                      <a:pt x="77" y="624"/>
                    </a:lnTo>
                    <a:lnTo>
                      <a:pt x="0" y="426"/>
                    </a:lnTo>
                    <a:lnTo>
                      <a:pt x="0" y="401"/>
                    </a:lnTo>
                    <a:lnTo>
                      <a:pt x="316" y="224"/>
                    </a:lnTo>
                    <a:lnTo>
                      <a:pt x="535" y="91"/>
                    </a:lnTo>
                    <a:lnTo>
                      <a:pt x="671" y="15"/>
                    </a:lnTo>
                    <a:lnTo>
                      <a:pt x="681" y="46"/>
                    </a:lnTo>
                    <a:lnTo>
                      <a:pt x="478" y="162"/>
                    </a:lnTo>
                    <a:lnTo>
                      <a:pt x="199" y="325"/>
                    </a:lnTo>
                    <a:lnTo>
                      <a:pt x="31" y="421"/>
                    </a:lnTo>
                    <a:lnTo>
                      <a:pt x="108" y="614"/>
                    </a:lnTo>
                    <a:lnTo>
                      <a:pt x="199" y="858"/>
                    </a:lnTo>
                    <a:lnTo>
                      <a:pt x="244" y="1006"/>
                    </a:lnTo>
                    <a:lnTo>
                      <a:pt x="276" y="1142"/>
                    </a:lnTo>
                    <a:lnTo>
                      <a:pt x="575" y="975"/>
                    </a:lnTo>
                    <a:lnTo>
                      <a:pt x="829" y="818"/>
                    </a:lnTo>
                    <a:lnTo>
                      <a:pt x="910" y="757"/>
                    </a:lnTo>
                    <a:lnTo>
                      <a:pt x="844" y="584"/>
                    </a:lnTo>
                    <a:lnTo>
                      <a:pt x="772" y="391"/>
                    </a:lnTo>
                    <a:lnTo>
                      <a:pt x="717" y="207"/>
                    </a:lnTo>
                    <a:lnTo>
                      <a:pt x="676" y="51"/>
                    </a:lnTo>
                    <a:lnTo>
                      <a:pt x="671" y="2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54960" y="4807800"/>
                <a:ext cx="334440" cy="238680"/>
              </a:xfrm>
              <a:custGeom>
                <a:avLst/>
                <a:gdLst/>
                <a:ahLst/>
                <a:rect l="l" t="t" r="r" b="b"/>
                <a:pathLst>
                  <a:path w="525" h="377">
                    <a:moveTo>
                      <a:pt x="509" y="0"/>
                    </a:moveTo>
                    <a:lnTo>
                      <a:pt x="525" y="45"/>
                    </a:lnTo>
                    <a:lnTo>
                      <a:pt x="21" y="377"/>
                    </a:lnTo>
                    <a:lnTo>
                      <a:pt x="0" y="325"/>
                    </a:lnTo>
                    <a:lnTo>
                      <a:pt x="41" y="325"/>
                    </a:lnTo>
                    <a:lnTo>
                      <a:pt x="484" y="35"/>
                    </a:lnTo>
                    <a:lnTo>
                      <a:pt x="5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98240" y="4916520"/>
                <a:ext cx="223560" cy="382320"/>
              </a:xfrm>
              <a:custGeom>
                <a:avLst/>
                <a:gdLst/>
                <a:ahLst/>
                <a:rect l="l" t="t" r="r" b="b"/>
                <a:pathLst>
                  <a:path w="351" h="599">
                    <a:moveTo>
                      <a:pt x="107" y="0"/>
                    </a:moveTo>
                    <a:lnTo>
                      <a:pt x="351" y="533"/>
                    </a:lnTo>
                    <a:lnTo>
                      <a:pt x="305" y="593"/>
                    </a:lnTo>
                    <a:lnTo>
                      <a:pt x="224" y="599"/>
                    </a:lnTo>
                    <a:lnTo>
                      <a:pt x="0" y="55"/>
                    </a:lnTo>
                    <a:lnTo>
                      <a:pt x="25" y="35"/>
                    </a:lnTo>
                    <a:lnTo>
                      <a:pt x="244" y="558"/>
                    </a:lnTo>
                    <a:lnTo>
                      <a:pt x="274" y="558"/>
                    </a:lnTo>
                    <a:lnTo>
                      <a:pt x="294" y="558"/>
                    </a:lnTo>
                    <a:lnTo>
                      <a:pt x="321" y="528"/>
                    </a:lnTo>
                    <a:lnTo>
                      <a:pt x="82" y="15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74320" y="4995000"/>
                <a:ext cx="132120" cy="439560"/>
              </a:xfrm>
              <a:custGeom>
                <a:avLst/>
                <a:gdLst/>
                <a:ahLst/>
                <a:rect l="l" t="t" r="r" b="b"/>
                <a:pathLst>
                  <a:path w="208" h="691">
                    <a:moveTo>
                      <a:pt x="101" y="25"/>
                    </a:moveTo>
                    <a:lnTo>
                      <a:pt x="208" y="640"/>
                    </a:lnTo>
                    <a:lnTo>
                      <a:pt x="178" y="686"/>
                    </a:lnTo>
                    <a:lnTo>
                      <a:pt x="111" y="691"/>
                    </a:lnTo>
                    <a:lnTo>
                      <a:pt x="61" y="676"/>
                    </a:lnTo>
                    <a:lnTo>
                      <a:pt x="0" y="52"/>
                    </a:lnTo>
                    <a:lnTo>
                      <a:pt x="20" y="15"/>
                    </a:lnTo>
                    <a:lnTo>
                      <a:pt x="86" y="651"/>
                    </a:lnTo>
                    <a:lnTo>
                      <a:pt x="121" y="661"/>
                    </a:lnTo>
                    <a:lnTo>
                      <a:pt x="168" y="651"/>
                    </a:lnTo>
                    <a:lnTo>
                      <a:pt x="66" y="0"/>
                    </a:lnTo>
                    <a:lnTo>
                      <a:pt x="10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95320" y="3894120"/>
                <a:ext cx="271440" cy="462240"/>
              </a:xfrm>
              <a:custGeom>
                <a:avLst/>
                <a:gdLst/>
                <a:ahLst/>
                <a:rect l="l" t="t" r="r" b="b"/>
                <a:pathLst>
                  <a:path w="426" h="727">
                    <a:moveTo>
                      <a:pt x="152" y="0"/>
                    </a:moveTo>
                    <a:lnTo>
                      <a:pt x="426" y="494"/>
                    </a:lnTo>
                    <a:lnTo>
                      <a:pt x="366" y="519"/>
                    </a:lnTo>
                    <a:lnTo>
                      <a:pt x="178" y="117"/>
                    </a:lnTo>
                    <a:lnTo>
                      <a:pt x="233" y="580"/>
                    </a:lnTo>
                    <a:lnTo>
                      <a:pt x="173" y="610"/>
                    </a:lnTo>
                    <a:lnTo>
                      <a:pt x="141" y="164"/>
                    </a:lnTo>
                    <a:lnTo>
                      <a:pt x="55" y="702"/>
                    </a:lnTo>
                    <a:lnTo>
                      <a:pt x="0" y="727"/>
                    </a:lnTo>
                    <a:lnTo>
                      <a:pt x="116" y="16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50240" y="4534200"/>
                <a:ext cx="154800" cy="634320"/>
              </a:xfrm>
              <a:custGeom>
                <a:avLst/>
                <a:gdLst/>
                <a:ahLst/>
                <a:rect l="l" t="t" r="r" b="b"/>
                <a:pathLst>
                  <a:path w="244" h="996">
                    <a:moveTo>
                      <a:pt x="169" y="10"/>
                    </a:moveTo>
                    <a:lnTo>
                      <a:pt x="107" y="533"/>
                    </a:lnTo>
                    <a:lnTo>
                      <a:pt x="0" y="920"/>
                    </a:lnTo>
                    <a:lnTo>
                      <a:pt x="6" y="966"/>
                    </a:lnTo>
                    <a:lnTo>
                      <a:pt x="46" y="996"/>
                    </a:lnTo>
                    <a:lnTo>
                      <a:pt x="107" y="996"/>
                    </a:lnTo>
                    <a:lnTo>
                      <a:pt x="194" y="545"/>
                    </a:lnTo>
                    <a:lnTo>
                      <a:pt x="229" y="219"/>
                    </a:lnTo>
                    <a:lnTo>
                      <a:pt x="244" y="35"/>
                    </a:lnTo>
                    <a:lnTo>
                      <a:pt x="219" y="20"/>
                    </a:lnTo>
                    <a:lnTo>
                      <a:pt x="204" y="259"/>
                    </a:lnTo>
                    <a:lnTo>
                      <a:pt x="169" y="550"/>
                    </a:lnTo>
                    <a:lnTo>
                      <a:pt x="97" y="890"/>
                    </a:lnTo>
                    <a:lnTo>
                      <a:pt x="81" y="961"/>
                    </a:lnTo>
                    <a:lnTo>
                      <a:pt x="51" y="961"/>
                    </a:lnTo>
                    <a:lnTo>
                      <a:pt x="26" y="930"/>
                    </a:lnTo>
                    <a:lnTo>
                      <a:pt x="137" y="528"/>
                    </a:lnTo>
                    <a:lnTo>
                      <a:pt x="162" y="274"/>
                    </a:lnTo>
                    <a:lnTo>
                      <a:pt x="199" y="0"/>
                    </a:lnTo>
                    <a:lnTo>
                      <a:pt x="16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934040" y="4224600"/>
              <a:ext cx="736200" cy="1238400"/>
              <a:chOff x="7934040" y="4224600"/>
              <a:chExt cx="736200" cy="1238400"/>
            </a:xfrm>
          </p:grpSpPr>
          <p:sp>
            <p:nvSpPr>
              <p:cNvPr id="163" name=""/>
              <p:cNvSpPr/>
              <p:nvPr/>
            </p:nvSpPr>
            <p:spPr>
              <a:xfrm>
                <a:off x="8291160" y="4224600"/>
                <a:ext cx="298080" cy="290160"/>
              </a:xfrm>
              <a:custGeom>
                <a:avLst/>
                <a:gdLst/>
                <a:ahLst/>
                <a:rect l="l" t="t" r="r" b="b"/>
                <a:pathLst>
                  <a:path w="468" h="458">
                    <a:moveTo>
                      <a:pt x="143" y="194"/>
                    </a:moveTo>
                    <a:lnTo>
                      <a:pt x="183" y="133"/>
                    </a:lnTo>
                    <a:lnTo>
                      <a:pt x="229" y="86"/>
                    </a:lnTo>
                    <a:lnTo>
                      <a:pt x="276" y="30"/>
                    </a:lnTo>
                    <a:lnTo>
                      <a:pt x="331" y="5"/>
                    </a:lnTo>
                    <a:lnTo>
                      <a:pt x="377" y="0"/>
                    </a:lnTo>
                    <a:lnTo>
                      <a:pt x="422" y="15"/>
                    </a:lnTo>
                    <a:lnTo>
                      <a:pt x="448" y="51"/>
                    </a:lnTo>
                    <a:lnTo>
                      <a:pt x="468" y="118"/>
                    </a:lnTo>
                    <a:lnTo>
                      <a:pt x="463" y="188"/>
                    </a:lnTo>
                    <a:lnTo>
                      <a:pt x="443" y="249"/>
                    </a:lnTo>
                    <a:lnTo>
                      <a:pt x="392" y="320"/>
                    </a:lnTo>
                    <a:lnTo>
                      <a:pt x="336" y="372"/>
                    </a:lnTo>
                    <a:lnTo>
                      <a:pt x="276" y="417"/>
                    </a:lnTo>
                    <a:lnTo>
                      <a:pt x="209" y="448"/>
                    </a:lnTo>
                    <a:lnTo>
                      <a:pt x="153" y="458"/>
                    </a:lnTo>
                    <a:lnTo>
                      <a:pt x="128" y="443"/>
                    </a:lnTo>
                    <a:lnTo>
                      <a:pt x="107" y="382"/>
                    </a:lnTo>
                    <a:lnTo>
                      <a:pt x="112" y="300"/>
                    </a:lnTo>
                    <a:lnTo>
                      <a:pt x="15" y="305"/>
                    </a:lnTo>
                    <a:lnTo>
                      <a:pt x="0" y="290"/>
                    </a:lnTo>
                    <a:lnTo>
                      <a:pt x="15" y="259"/>
                    </a:lnTo>
                    <a:lnTo>
                      <a:pt x="117" y="254"/>
                    </a:lnTo>
                    <a:lnTo>
                      <a:pt x="143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74240" y="4547160"/>
                <a:ext cx="208080" cy="428040"/>
              </a:xfrm>
              <a:custGeom>
                <a:avLst/>
                <a:gdLst/>
                <a:ahLst/>
                <a:rect l="l" t="t" r="r" b="b"/>
                <a:pathLst>
                  <a:path w="326" h="671">
                    <a:moveTo>
                      <a:pt x="92" y="56"/>
                    </a:moveTo>
                    <a:lnTo>
                      <a:pt x="138" y="15"/>
                    </a:lnTo>
                    <a:lnTo>
                      <a:pt x="209" y="0"/>
                    </a:lnTo>
                    <a:lnTo>
                      <a:pt x="269" y="10"/>
                    </a:lnTo>
                    <a:lnTo>
                      <a:pt x="316" y="51"/>
                    </a:lnTo>
                    <a:lnTo>
                      <a:pt x="326" y="82"/>
                    </a:lnTo>
                    <a:lnTo>
                      <a:pt x="326" y="122"/>
                    </a:lnTo>
                    <a:lnTo>
                      <a:pt x="306" y="158"/>
                    </a:lnTo>
                    <a:lnTo>
                      <a:pt x="269" y="219"/>
                    </a:lnTo>
                    <a:lnTo>
                      <a:pt x="254" y="289"/>
                    </a:lnTo>
                    <a:lnTo>
                      <a:pt x="249" y="351"/>
                    </a:lnTo>
                    <a:lnTo>
                      <a:pt x="264" y="417"/>
                    </a:lnTo>
                    <a:lnTo>
                      <a:pt x="306" y="478"/>
                    </a:lnTo>
                    <a:lnTo>
                      <a:pt x="321" y="538"/>
                    </a:lnTo>
                    <a:lnTo>
                      <a:pt x="316" y="595"/>
                    </a:lnTo>
                    <a:lnTo>
                      <a:pt x="286" y="641"/>
                    </a:lnTo>
                    <a:lnTo>
                      <a:pt x="244" y="666"/>
                    </a:lnTo>
                    <a:lnTo>
                      <a:pt x="193" y="671"/>
                    </a:lnTo>
                    <a:lnTo>
                      <a:pt x="133" y="671"/>
                    </a:lnTo>
                    <a:lnTo>
                      <a:pt x="87" y="646"/>
                    </a:lnTo>
                    <a:lnTo>
                      <a:pt x="40" y="570"/>
                    </a:lnTo>
                    <a:lnTo>
                      <a:pt x="10" y="503"/>
                    </a:lnTo>
                    <a:lnTo>
                      <a:pt x="0" y="402"/>
                    </a:lnTo>
                    <a:lnTo>
                      <a:pt x="10" y="311"/>
                    </a:lnTo>
                    <a:lnTo>
                      <a:pt x="30" y="214"/>
                    </a:lnTo>
                    <a:lnTo>
                      <a:pt x="62" y="117"/>
                    </a:lnTo>
                    <a:lnTo>
                      <a:pt x="9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34040" y="4299120"/>
                <a:ext cx="437760" cy="332280"/>
              </a:xfrm>
              <a:custGeom>
                <a:avLst/>
                <a:gdLst/>
                <a:ahLst/>
                <a:rect l="l" t="t" r="r" b="b"/>
                <a:pathLst>
                  <a:path w="688" h="523">
                    <a:moveTo>
                      <a:pt x="509" y="396"/>
                    </a:moveTo>
                    <a:lnTo>
                      <a:pt x="647" y="431"/>
                    </a:lnTo>
                    <a:lnTo>
                      <a:pt x="672" y="441"/>
                    </a:lnTo>
                    <a:lnTo>
                      <a:pt x="688" y="472"/>
                    </a:lnTo>
                    <a:lnTo>
                      <a:pt x="672" y="508"/>
                    </a:lnTo>
                    <a:lnTo>
                      <a:pt x="647" y="523"/>
                    </a:lnTo>
                    <a:lnTo>
                      <a:pt x="617" y="518"/>
                    </a:lnTo>
                    <a:lnTo>
                      <a:pt x="464" y="431"/>
                    </a:lnTo>
                    <a:lnTo>
                      <a:pt x="356" y="385"/>
                    </a:lnTo>
                    <a:lnTo>
                      <a:pt x="250" y="335"/>
                    </a:lnTo>
                    <a:lnTo>
                      <a:pt x="152" y="274"/>
                    </a:lnTo>
                    <a:lnTo>
                      <a:pt x="112" y="269"/>
                    </a:lnTo>
                    <a:lnTo>
                      <a:pt x="102" y="284"/>
                    </a:lnTo>
                    <a:lnTo>
                      <a:pt x="97" y="320"/>
                    </a:lnTo>
                    <a:lnTo>
                      <a:pt x="56" y="335"/>
                    </a:lnTo>
                    <a:lnTo>
                      <a:pt x="26" y="310"/>
                    </a:lnTo>
                    <a:lnTo>
                      <a:pt x="0" y="229"/>
                    </a:lnTo>
                    <a:lnTo>
                      <a:pt x="26" y="157"/>
                    </a:lnTo>
                    <a:lnTo>
                      <a:pt x="11" y="137"/>
                    </a:lnTo>
                    <a:lnTo>
                      <a:pt x="6" y="61"/>
                    </a:lnTo>
                    <a:lnTo>
                      <a:pt x="16" y="25"/>
                    </a:lnTo>
                    <a:lnTo>
                      <a:pt x="41" y="0"/>
                    </a:lnTo>
                    <a:lnTo>
                      <a:pt x="76" y="0"/>
                    </a:lnTo>
                    <a:lnTo>
                      <a:pt x="76" y="20"/>
                    </a:lnTo>
                    <a:lnTo>
                      <a:pt x="46" y="46"/>
                    </a:lnTo>
                    <a:lnTo>
                      <a:pt x="46" y="81"/>
                    </a:lnTo>
                    <a:lnTo>
                      <a:pt x="56" y="116"/>
                    </a:lnTo>
                    <a:lnTo>
                      <a:pt x="82" y="162"/>
                    </a:lnTo>
                    <a:lnTo>
                      <a:pt x="117" y="202"/>
                    </a:lnTo>
                    <a:lnTo>
                      <a:pt x="147" y="229"/>
                    </a:lnTo>
                    <a:lnTo>
                      <a:pt x="204" y="264"/>
                    </a:lnTo>
                    <a:lnTo>
                      <a:pt x="321" y="315"/>
                    </a:lnTo>
                    <a:lnTo>
                      <a:pt x="428" y="355"/>
                    </a:lnTo>
                    <a:lnTo>
                      <a:pt x="509" y="3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40560" y="4560840"/>
                <a:ext cx="229680" cy="385920"/>
              </a:xfrm>
              <a:custGeom>
                <a:avLst/>
                <a:gdLst/>
                <a:ahLst/>
                <a:rect l="l" t="t" r="r" b="b"/>
                <a:pathLst>
                  <a:path w="361" h="606">
                    <a:moveTo>
                      <a:pt x="0" y="31"/>
                    </a:moveTo>
                    <a:lnTo>
                      <a:pt x="5" y="6"/>
                    </a:lnTo>
                    <a:lnTo>
                      <a:pt x="62" y="0"/>
                    </a:lnTo>
                    <a:lnTo>
                      <a:pt x="92" y="26"/>
                    </a:lnTo>
                    <a:lnTo>
                      <a:pt x="138" y="93"/>
                    </a:lnTo>
                    <a:lnTo>
                      <a:pt x="198" y="179"/>
                    </a:lnTo>
                    <a:lnTo>
                      <a:pt x="254" y="239"/>
                    </a:lnTo>
                    <a:lnTo>
                      <a:pt x="356" y="352"/>
                    </a:lnTo>
                    <a:lnTo>
                      <a:pt x="361" y="377"/>
                    </a:lnTo>
                    <a:lnTo>
                      <a:pt x="341" y="392"/>
                    </a:lnTo>
                    <a:lnTo>
                      <a:pt x="290" y="412"/>
                    </a:lnTo>
                    <a:lnTo>
                      <a:pt x="218" y="427"/>
                    </a:lnTo>
                    <a:lnTo>
                      <a:pt x="132" y="433"/>
                    </a:lnTo>
                    <a:lnTo>
                      <a:pt x="102" y="438"/>
                    </a:lnTo>
                    <a:lnTo>
                      <a:pt x="92" y="458"/>
                    </a:lnTo>
                    <a:lnTo>
                      <a:pt x="112" y="493"/>
                    </a:lnTo>
                    <a:lnTo>
                      <a:pt x="183" y="555"/>
                    </a:lnTo>
                    <a:lnTo>
                      <a:pt x="234" y="570"/>
                    </a:lnTo>
                    <a:lnTo>
                      <a:pt x="244" y="590"/>
                    </a:lnTo>
                    <a:lnTo>
                      <a:pt x="223" y="606"/>
                    </a:lnTo>
                    <a:lnTo>
                      <a:pt x="178" y="606"/>
                    </a:lnTo>
                    <a:lnTo>
                      <a:pt x="117" y="570"/>
                    </a:lnTo>
                    <a:lnTo>
                      <a:pt x="67" y="520"/>
                    </a:lnTo>
                    <a:lnTo>
                      <a:pt x="35" y="473"/>
                    </a:lnTo>
                    <a:lnTo>
                      <a:pt x="35" y="438"/>
                    </a:lnTo>
                    <a:lnTo>
                      <a:pt x="57" y="412"/>
                    </a:lnTo>
                    <a:lnTo>
                      <a:pt x="87" y="402"/>
                    </a:lnTo>
                    <a:lnTo>
                      <a:pt x="132" y="397"/>
                    </a:lnTo>
                    <a:lnTo>
                      <a:pt x="183" y="397"/>
                    </a:lnTo>
                    <a:lnTo>
                      <a:pt x="244" y="387"/>
                    </a:lnTo>
                    <a:lnTo>
                      <a:pt x="275" y="377"/>
                    </a:lnTo>
                    <a:lnTo>
                      <a:pt x="290" y="362"/>
                    </a:lnTo>
                    <a:lnTo>
                      <a:pt x="285" y="347"/>
                    </a:lnTo>
                    <a:lnTo>
                      <a:pt x="239" y="306"/>
                    </a:lnTo>
                    <a:lnTo>
                      <a:pt x="168" y="234"/>
                    </a:lnTo>
                    <a:lnTo>
                      <a:pt x="102" y="173"/>
                    </a:lnTo>
                    <a:lnTo>
                      <a:pt x="30" y="108"/>
                    </a:lnTo>
                    <a:lnTo>
                      <a:pt x="5" y="6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89360" y="4885920"/>
                <a:ext cx="250560" cy="577080"/>
              </a:xfrm>
              <a:custGeom>
                <a:avLst/>
                <a:gdLst/>
                <a:ahLst/>
                <a:rect l="l" t="t" r="r" b="b"/>
                <a:pathLst>
                  <a:path w="392" h="908">
                    <a:moveTo>
                      <a:pt x="194" y="0"/>
                    </a:moveTo>
                    <a:lnTo>
                      <a:pt x="250" y="10"/>
                    </a:lnTo>
                    <a:lnTo>
                      <a:pt x="275" y="51"/>
                    </a:lnTo>
                    <a:lnTo>
                      <a:pt x="270" y="147"/>
                    </a:lnTo>
                    <a:lnTo>
                      <a:pt x="260" y="249"/>
                    </a:lnTo>
                    <a:lnTo>
                      <a:pt x="260" y="355"/>
                    </a:lnTo>
                    <a:lnTo>
                      <a:pt x="311" y="481"/>
                    </a:lnTo>
                    <a:lnTo>
                      <a:pt x="352" y="573"/>
                    </a:lnTo>
                    <a:lnTo>
                      <a:pt x="372" y="664"/>
                    </a:lnTo>
                    <a:lnTo>
                      <a:pt x="367" y="745"/>
                    </a:lnTo>
                    <a:lnTo>
                      <a:pt x="367" y="777"/>
                    </a:lnTo>
                    <a:lnTo>
                      <a:pt x="387" y="807"/>
                    </a:lnTo>
                    <a:lnTo>
                      <a:pt x="392" y="837"/>
                    </a:lnTo>
                    <a:lnTo>
                      <a:pt x="377" y="852"/>
                    </a:lnTo>
                    <a:lnTo>
                      <a:pt x="337" y="842"/>
                    </a:lnTo>
                    <a:lnTo>
                      <a:pt x="260" y="832"/>
                    </a:lnTo>
                    <a:lnTo>
                      <a:pt x="169" y="852"/>
                    </a:lnTo>
                    <a:lnTo>
                      <a:pt x="108" y="888"/>
                    </a:lnTo>
                    <a:lnTo>
                      <a:pt x="76" y="908"/>
                    </a:lnTo>
                    <a:lnTo>
                      <a:pt x="46" y="908"/>
                    </a:lnTo>
                    <a:lnTo>
                      <a:pt x="0" y="842"/>
                    </a:lnTo>
                    <a:lnTo>
                      <a:pt x="6" y="832"/>
                    </a:lnTo>
                    <a:lnTo>
                      <a:pt x="98" y="802"/>
                    </a:lnTo>
                    <a:lnTo>
                      <a:pt x="204" y="787"/>
                    </a:lnTo>
                    <a:lnTo>
                      <a:pt x="280" y="782"/>
                    </a:lnTo>
                    <a:lnTo>
                      <a:pt x="327" y="782"/>
                    </a:lnTo>
                    <a:lnTo>
                      <a:pt x="337" y="750"/>
                    </a:lnTo>
                    <a:lnTo>
                      <a:pt x="322" y="664"/>
                    </a:lnTo>
                    <a:lnTo>
                      <a:pt x="285" y="573"/>
                    </a:lnTo>
                    <a:lnTo>
                      <a:pt x="229" y="456"/>
                    </a:lnTo>
                    <a:lnTo>
                      <a:pt x="184" y="355"/>
                    </a:lnTo>
                    <a:lnTo>
                      <a:pt x="164" y="264"/>
                    </a:lnTo>
                    <a:lnTo>
                      <a:pt x="159" y="162"/>
                    </a:lnTo>
                    <a:lnTo>
                      <a:pt x="159" y="66"/>
                    </a:lnTo>
                    <a:lnTo>
                      <a:pt x="179" y="25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69120" y="4901040"/>
                <a:ext cx="206280" cy="481320"/>
              </a:xfrm>
              <a:custGeom>
                <a:avLst/>
                <a:gdLst/>
                <a:ahLst/>
                <a:rect l="l" t="t" r="r" b="b"/>
                <a:pathLst>
                  <a:path w="325" h="757">
                    <a:moveTo>
                      <a:pt x="244" y="0"/>
                    </a:moveTo>
                    <a:lnTo>
                      <a:pt x="290" y="0"/>
                    </a:lnTo>
                    <a:lnTo>
                      <a:pt x="305" y="30"/>
                    </a:lnTo>
                    <a:lnTo>
                      <a:pt x="315" y="96"/>
                    </a:lnTo>
                    <a:lnTo>
                      <a:pt x="305" y="166"/>
                    </a:lnTo>
                    <a:lnTo>
                      <a:pt x="279" y="309"/>
                    </a:lnTo>
                    <a:lnTo>
                      <a:pt x="284" y="370"/>
                    </a:lnTo>
                    <a:lnTo>
                      <a:pt x="315" y="491"/>
                    </a:lnTo>
                    <a:lnTo>
                      <a:pt x="325" y="578"/>
                    </a:lnTo>
                    <a:lnTo>
                      <a:pt x="325" y="644"/>
                    </a:lnTo>
                    <a:lnTo>
                      <a:pt x="310" y="659"/>
                    </a:lnTo>
                    <a:lnTo>
                      <a:pt x="264" y="669"/>
                    </a:lnTo>
                    <a:lnTo>
                      <a:pt x="202" y="685"/>
                    </a:lnTo>
                    <a:lnTo>
                      <a:pt x="142" y="715"/>
                    </a:lnTo>
                    <a:lnTo>
                      <a:pt x="81" y="757"/>
                    </a:lnTo>
                    <a:lnTo>
                      <a:pt x="56" y="757"/>
                    </a:lnTo>
                    <a:lnTo>
                      <a:pt x="0" y="710"/>
                    </a:lnTo>
                    <a:lnTo>
                      <a:pt x="5" y="690"/>
                    </a:lnTo>
                    <a:lnTo>
                      <a:pt x="76" y="659"/>
                    </a:lnTo>
                    <a:lnTo>
                      <a:pt x="197" y="629"/>
                    </a:lnTo>
                    <a:lnTo>
                      <a:pt x="254" y="609"/>
                    </a:lnTo>
                    <a:lnTo>
                      <a:pt x="264" y="589"/>
                    </a:lnTo>
                    <a:lnTo>
                      <a:pt x="264" y="501"/>
                    </a:lnTo>
                    <a:lnTo>
                      <a:pt x="244" y="390"/>
                    </a:lnTo>
                    <a:lnTo>
                      <a:pt x="234" y="319"/>
                    </a:lnTo>
                    <a:lnTo>
                      <a:pt x="224" y="207"/>
                    </a:lnTo>
                    <a:lnTo>
                      <a:pt x="219" y="86"/>
                    </a:lnTo>
                    <a:lnTo>
                      <a:pt x="224" y="30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ministrative Podca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12960" y="1677960"/>
            <a:ext cx="60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ing out to the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erintendent – district n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s – building n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Board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st Speakers / Lectu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/ Initi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rts 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s /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46760" y="5462640"/>
            <a:ext cx="17668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uestions about usage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495720" y="6489360"/>
            <a:ext cx="44578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back to the Essential Ques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23160" y="1506600"/>
            <a:ext cx="633600" cy="1533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2670120"/>
            <a:ext cx="777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Your Task -- choose one of the follow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et someone you haven’t talked to and share your ideas on podcasting possibilities for your classroom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someone else willing to collaborate on a podcast idea and plan your course of action to make it happ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wo Ways to Create Podca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6200" y="200664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us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oftwar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emonstratio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us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-held devic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ands-on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37120" y="1717560"/>
            <a:ext cx="2913120" cy="2232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11880" y="4254480"/>
            <a:ext cx="2151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eating Your Podcast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ching Strategy: Demonstration/Lectur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160" y="1935000"/>
            <a:ext cx="508032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Software Too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ageBand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dacity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ows or M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un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Win/M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824360" y="4262400"/>
            <a:ext cx="3068640" cy="235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75480" y="2131920"/>
            <a:ext cx="2327040" cy="156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317840" y="2755800"/>
            <a:ext cx="1219320" cy="0"/>
          </a:xfrm>
          <a:prstGeom prst="line">
            <a:avLst/>
          </a:prstGeom>
          <a:ln w="28440">
            <a:solidFill>
              <a:srgbClr val="cd07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49560" y="3560760"/>
            <a:ext cx="1041480" cy="528480"/>
          </a:xfrm>
          <a:prstGeom prst="line">
            <a:avLst/>
          </a:prstGeom>
          <a:ln w="28440">
            <a:solidFill>
              <a:srgbClr val="cd07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 flipH="1">
            <a:off x="8152920" y="5842080"/>
            <a:ext cx="814680" cy="771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23960" y="4313160"/>
            <a:ext cx="3225600" cy="2237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54280" y="3951360"/>
            <a:ext cx="0" cy="311040"/>
          </a:xfrm>
          <a:prstGeom prst="line">
            <a:avLst/>
          </a:prstGeom>
          <a:ln w="28440">
            <a:solidFill>
              <a:srgbClr val="cd07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reating Your Podcast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ching Strategy: constructivist w/hands-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01320" y="1935000"/>
            <a:ext cx="4991400" cy="38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flipH="1">
            <a:off x="8152920" y="5842080"/>
            <a:ext cx="814680" cy="771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03320" y="2036880"/>
            <a:ext cx="507996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Hardware Tool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Rec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phone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0" t="18648" r="54476" b="11301"/>
          <a:stretch/>
        </p:blipFill>
        <p:spPr>
          <a:xfrm>
            <a:off x="7219800" y="2095560"/>
            <a:ext cx="1341720" cy="2224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484960" y="2933640"/>
            <a:ext cx="1172880" cy="2438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839880" y="4381560"/>
            <a:ext cx="1663560" cy="1663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089160" y="4383000"/>
            <a:ext cx="16621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uestions? Comments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49760" y="1860480"/>
            <a:ext cx="1435320" cy="3478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093760" y="2604960"/>
            <a:ext cx="1646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ve S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al Technology  Coordinator, IU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 TIMs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wenty for Te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dca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1640" y="1874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e Sp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ristown School Distri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 TIM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stone Technology Integrator 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ysics Teac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flipH="1">
            <a:off x="7278480" y="5268960"/>
            <a:ext cx="14079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-2-1 Ticket Out the Door…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mmarizing Strateg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08360" y="3336840"/>
            <a:ext cx="2668680" cy="2454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57240" y="238284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imes New Roman"/>
              </a:rPr>
              <a:t>What knowledge will you take away from today’s se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9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02160" y="541440"/>
            <a:ext cx="2197080" cy="453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56000" y="541080"/>
            <a:ext cx="2343240" cy="453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00080" y="2646360"/>
            <a:ext cx="788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use podcasting to teach PA stand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I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reate my ow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cas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86760" y="4978440"/>
            <a:ext cx="6937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mative Assessmen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tivating Strategy -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CPS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87600" y="2300040"/>
            <a:ext cx="60228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tive assessment helps teachers monitor student progress and modify instruction accordingl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pedia.or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17800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9880" y="5929200"/>
            <a:ext cx="62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800" y="6127920"/>
            <a:ext cx="74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look for more on Formative Assessment tomorrow with Le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flipH="1">
            <a:off x="7610400" y="5205240"/>
            <a:ext cx="8812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mative Assessment Results: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What do you want to learn today?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2000" y="2397240"/>
            <a:ext cx="7356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What is a podca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cc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How do we use podcasting to teach standar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I create my own podca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086600" y="5108400"/>
            <a:ext cx="1600200" cy="1498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43400" y="612936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minder: Time chec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: Quick Review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Teaching Strategy: Guided Lecture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560" y="2246400"/>
            <a:ext cx="7661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cast   =   iPod + Broadcas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Files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udio or video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SS Feed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utomated Transfer from Server to cli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36040" y="5518080"/>
            <a:ext cx="95076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casting Proces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87080" y="1914120"/>
            <a:ext cx="76215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st posts content to www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p3, mov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st also posts RSS “Feed” fi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 subscribes to the “Feed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 downloads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469280" y="5289480"/>
            <a:ext cx="1217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nter iTunes: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unes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S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Organ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Aggreg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Sea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S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Mac or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Lots for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free</a:t>
            </a:r>
            <a:r>
              <a:rPr b="0" lang="en-US" sz="2800" spc="-1" strike="noStrike">
                <a:solidFill>
                  <a:srgbClr val="e5e5ff"/>
                </a:solidFill>
                <a:latin typeface="Times New Roman"/>
              </a:rPr>
              <a:t>! </a:t>
            </a: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(New: iTunes U for K12!!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75120" y="2044800"/>
            <a:ext cx="450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4136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odcast Questions?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ytime ensues…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648612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Times New Roman"/>
              </a:rPr>
              <a:t>back to the Essential Ques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24640" y="1333440"/>
            <a:ext cx="689040" cy="1670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3328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ou may n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lore iTunes with a partner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(collaborative pairs / self-directed learning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llow the next part of the presentation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(guided lecture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58:33Z</dcterms:created>
  <dc:creator>bfountai</dc:creator>
  <dc:description/>
  <dc:language>en-US</dc:language>
  <cp:lastModifiedBy>Dave Solon</cp:lastModifiedBy>
  <dcterms:modified xsi:type="dcterms:W3CDTF">2008-07-26T16:44:19Z</dcterms:modified>
  <cp:revision>531</cp:revision>
  <dc:subject/>
  <dc:title>21st Century Teaching for 21st Century Students</dc:title>
</cp:coreProperties>
</file>